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9.wmf" ContentType="image/x-wmf"/>
  <Override PartName="/ppt/media/image16.wmf" ContentType="image/x-wmf"/>
  <Override PartName="/ppt/media/image14.jpeg" ContentType="image/jpeg"/>
  <Override PartName="/ppt/media/image13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5.wmf" ContentType="image/x-wmf"/>
  <Override PartName="/ppt/media/image6.png" ContentType="image/png"/>
  <Override PartName="/ppt/media/chimes.wav" ContentType="audio/x-wav"/>
  <Override PartName="/ppt/media/image11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546-3CE7-40DA-94BF-57EE28DC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82D-02DE-463F-A6A3-E7FDFB6B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EA1-B078-4455-A0A4-368AF6AB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419-148D-4B51-8B51-3FE12D5C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58AB-BC3F-43A9-B83A-31E1714C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7BED-57B5-4A13-9BD3-6FD31F3A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60FB-984A-4C3D-863E-F3480ECB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F451-3293-40C0-86DB-6AA93A39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65C4-1048-47F6-8AAB-05BDDA93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E431-0684-4BBC-8E18-9489D38D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D34B-BD6A-4647-BC36-5D992EA2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515-C700-41DF-91B1-4D64F23F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A309-C7A6-49C1-BCB3-AA80FE1D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4ABE-7B9B-4DC5-81C1-6220B780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59B5-F491-4AC6-8E10-C086926F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62B9-FA04-4DCF-9B9F-5FD88917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AE41-5458-47B5-A3C8-6D76CD76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1F1-21BC-4725-8B04-DAD78B97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FAF-4ED7-40A3-9C39-A2238834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F0D-D189-427A-BAC3-22181199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D03-2EF7-4DB6-B018-7F9BAC6F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D90-6CC9-4E39-8C94-CF407E9D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A49-73EB-411D-BABD-9041F17F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774-05D3-476B-A769-E48C3A8D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26FE-4515-4F32-A3A1-3DD1CFCC488F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1728-9097-44E4-8AE3-F5D6A51918CC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window.clearTimeout(_ht%5B8%5D)%3Bqs_show_frame(event,this,8)%3B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86000" y="99072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3360"/>
            <a:ext cx="405612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9480" y="3124080"/>
            <a:ext cx="2362320" cy="1844640"/>
            <a:chOff x="609480" y="3124080"/>
            <a:chExt cx="2362320" cy="1844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609480" y="3124080"/>
              <a:ext cx="118764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676520" y="3900600"/>
              <a:ext cx="1295280" cy="106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0" y="5591160"/>
            <a:ext cx="6458040" cy="1266840"/>
            <a:chOff x="0" y="5591160"/>
            <a:chExt cx="6458040" cy="126684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0" y="5591160"/>
              <a:ext cx="219060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267080" y="5646600"/>
              <a:ext cx="219096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2133720" y="5622840"/>
              <a:ext cx="2190600" cy="1235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8600" y="5486400"/>
            <a:ext cx="1752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考考你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4648320"/>
            <a:ext cx="88452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447920"/>
            <a:ext cx="8991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判断题：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包装上的信息，能为我们科学、均衡、营养地选择食物提供帮助。（       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自身的特点、保存方法、配料等都会影响食品的保质期长短。（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保质期短的食物一定比保质期长的食物好。（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厂家生产食品时采用不同的包装，仅仅是为了美观，提高销量。（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5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添加剂能改善食品的色香味，但是食用过多对人体有害。（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2448000" cy="248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2514600" cy="250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752480" y="0"/>
            <a:ext cx="2590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认识吗？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3168720" cy="2535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4481640"/>
            <a:ext cx="22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362320" y="4494240"/>
            <a:ext cx="2819160" cy="2174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266472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：防腐剂我国允许使用的共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种。许多食品都含有防腐剂，过多或长期食用还有可能产生病变，形成有强烈致癌作用的物质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通常允许使用的绿色防腐剂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“山梨酸钾”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468440" cy="1730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267080" y="5562720"/>
            <a:ext cx="32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课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5520" y="2039040"/>
            <a:ext cx="871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食品添加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是指为改善食品品质和色、香、味，以及为防腐和加工工艺的需要而加入食品中的化学合成或天然物质。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26650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转化糖浆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一种淡黄色透明液体，具有粘度小、溶解度与吸水性高、甜味好的特点。甜味为砂糖的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.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倍。蔗糖在受触媒催化，与水起分解作用，还原成葡糖糖和果糖。一分子的蔗糖水解后为一分子的葡萄糖及一分子的果糖，而蔗糖原有的旋光性也由左旋转为右旋，此转化后的混合物就是转化糖，反应结束后加入碱液中和酸性就得到转化糖浆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47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膨松剂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 化学膨松剂可以分为两种：一是碱性膨松剂，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如碳酸氢钠（小苏打）、碳酸氢铵（臭粉）；另一种是复合膨松剂，如钾明矾和铵明矾。碱性膨松剂在一定温度下在面团中缓慢分解，从而释放出二氧化碳，使面团膨胀；复合膨松剂则是由碱剂、酸剂与填充剂混合而成，在加热的面团中，酸和碱会产生反应释放出二氧化碳。我国最古老的油条，就是面粉中加入化学膨松剂明矾油炸而成。明矾中含有铝，对人体是极有危害的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加了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膨松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所以又松又脆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54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食用香精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参照天然食品的香味，采用天然和天然等同香料、合成香料经精心调配而成具有天然风味的各种香型的香精。包括水果类水质和油质、奶类、家禽类、肉类、蔬菜类、坚果类、蜜饯类、乳化类以及酒类等各种香精，适用于饮料、饼干、糕点、冷冻食品、糖果、调味料、乳制品、罐头、酒等食品中。食用香精的剂型有液体、粉末、微胶囊、浆状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737720"/>
            <a:ext cx="896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乳化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需要量较大的一种食品添加剂，世界食用乳化剂允许使用的品种约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余种，我国已批准使用的品种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种。主要品种有：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卵磷脂，属于从动植物提取的天然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和营养强化剂。主要品种是大豆卵磷脂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蔗糖脂肪酸酯。可以代替食用油，又不产生热量，不至使人发胖，还有降血清胆固醇等作用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甘油脂肪酸酯等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609588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4572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一、观察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观察食品包装袋或包装盒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09680"/>
            <a:ext cx="81532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559085"/>
                </a:solidFill>
                <a:uFillTx/>
                <a:latin typeface="Arial"/>
                <a:hlinkClick r:id="rId1"/>
              </a:rPr>
              <a:t>讨论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：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食品为什么会有这么多种不同的包装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一般的包装袋上有哪几类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我们从食品包装袋上能获得哪些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95880" y="405432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A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需要避光的食物，包装一般是不透明的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怕磕碰的食物，包装大多比较硬实；肉制食品多为真空包装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4480" y="5181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B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食品的配料、营养成分、保质期和保存方式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79160"/>
            <a:ext cx="889308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一般的食品包装上都有：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日期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保质期或有限期限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配料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条形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净含量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标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厂家信息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QS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标识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标准号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标签认可号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许可证号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贮藏方法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版权声明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营养成分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图案  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广告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环保标志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口味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注意事项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图案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品名称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吸管孔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\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易撕口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列表记录几种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生产日期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日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2209680"/>
          <a:ext cx="8229600" cy="4343400"/>
        </p:xfrm>
        <a:graphic>
          <a:graphicData uri="http://schemas.openxmlformats.org/drawingml/2006/table">
            <a:tbl>
              <a:tblPr/>
              <a:tblGrid>
                <a:gridCol w="1646280"/>
                <a:gridCol w="1706400"/>
                <a:gridCol w="1752840"/>
                <a:gridCol w="1673280"/>
                <a:gridCol w="145080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食品名称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生产日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质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存条件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250920"/>
            <a:ext cx="88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52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近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844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早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8414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新鲜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4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短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508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长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1159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观察保质期最短和最长的两种食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9079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特点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食品的特点是否是影响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133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包装和保存的方法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不同的包装和保存方法是否是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28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配料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是否有影响保质期长短的因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44370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如果是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同一种食品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我们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还是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短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661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选择食品应根据实际需要：如果是短期内能食用完的，一般考虑保质期短的食品…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6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调查了解食品的配料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6000" y="105264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先看看食品的配料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 rot="5400000">
            <a:off x="-1192320" y="32878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牛奶饼干的配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20" y="189000"/>
            <a:ext cx="21913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把我们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方正姚体"/>
              </a:rPr>
              <a:t>熟悉的配料</a:t>
            </a: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找出来，推测它们在食品中起的作用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981000"/>
            <a:ext cx="7056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小麦粉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饼干的主要成分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白砂糖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精炼植物油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全脂奶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食盐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5334120"/>
            <a:ext cx="884160" cy="13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724360" y="333360"/>
            <a:ext cx="3097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转化糖浆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膨松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食用香精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653000"/>
            <a:ext cx="345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知道吗，一些</a:t>
            </a:r>
            <a:r>
              <a:rPr b="0" lang="zh-CN" sz="3200" spc="-1" strike="noStrike" u="sng">
                <a:solidFill>
                  <a:srgbClr val="559085"/>
                </a:solidFill>
                <a:uFillTx/>
                <a:latin typeface="Arial"/>
                <a:hlinkClick r:id="rId1" action="ppaction://hlinksldjump"/>
              </a:rPr>
              <a:t>添加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对人体有害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4348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884160" cy="133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83808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把我们不熟悉的配料找出来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猜猜它们是些什么东西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9T05:42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